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888-45AA-4D7C-BE8E-69925440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6C6-3A7C-46ED-B0AE-B8D74561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E86-83BA-43E2-BCCB-21B6DA75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E7C-133D-4A28-9EB2-962389C9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529-A433-436A-B2EB-1CCB94D8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ABA-D2C6-4048-A8F8-3AD2A780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813-F5BB-48A6-A0C6-D69D9629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54F-21B9-4B1F-9387-87C18AAF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7E0-CF0C-4518-BBF3-08478321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E0F-D951-411A-93EB-4D501D95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619-FE08-40B8-8646-7A8ED3E3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F25-9A7B-4640-A82E-04DF4437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1860-BD6E-4DA0-B0CB-301562490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lantgdb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lantGDB: Annotation Principles &amp; Proced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4422" r="1063" b="0"/>
          <a:stretch/>
        </p:blipFill>
        <p:spPr>
          <a:xfrm>
            <a:off x="1219320" y="1295280"/>
            <a:ext cx="6705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98" t="3367" r="1355" b="0"/>
          <a:stretch/>
        </p:blipFill>
        <p:spPr>
          <a:xfrm>
            <a:off x="228600" y="76320"/>
            <a:ext cx="8643960" cy="67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25733" t="27159" r="27794" b="25191"/>
          <a:stretch/>
        </p:blipFill>
        <p:spPr>
          <a:xfrm>
            <a:off x="457200" y="33480"/>
            <a:ext cx="822960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Web-Based Gene Structure Annot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 local region using all available EST and protein mapp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e a gene structure (expert)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el contributed annotation through a cura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confirmed annotation to the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4422" r="1042" b="10934"/>
          <a:stretch/>
        </p:blipFill>
        <p:spPr>
          <a:xfrm>
            <a:off x="76320" y="68400"/>
            <a:ext cx="899136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4422" r="1063" b="0"/>
          <a:stretch/>
        </p:blipFill>
        <p:spPr>
          <a:xfrm>
            <a:off x="228600" y="76320"/>
            <a:ext cx="861048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493" t="3795" r="26902" b="3119"/>
          <a:stretch/>
        </p:blipFill>
        <p:spPr>
          <a:xfrm>
            <a:off x="1219320" y="76320"/>
            <a:ext cx="630684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1680" y="76320"/>
            <a:ext cx="5767200" cy="6422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655308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cl. Acids Re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354-D3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4422" r="1042" b="0"/>
          <a:stretch/>
        </p:blipFill>
        <p:spPr>
          <a:xfrm>
            <a:off x="228600" y="-152280"/>
            <a:ext cx="87631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9000" y="1522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48765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lantgdb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plantgdb.org/AtGDB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u, Schlueter &amp; Brendel (200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nt Physi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469-4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ueter, Dong &amp; Brendel (200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. Acids R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354-D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88620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80060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er Bren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ew Wilk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ome An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ational gen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 init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es (Markov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ce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ained gen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128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Seq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79560" y="1924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68560" y="26100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68560" y="2724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68560" y="28386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68560" y="2952720"/>
            <a:ext cx="101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68560" y="30672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8560" y="31813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68560" y="32958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8560" y="34099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68560" y="3524400"/>
            <a:ext cx="101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8560" y="36385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8560" y="37530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7524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omic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25124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 or protei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ffix Array/ Suffix T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438280"/>
            <a:ext cx="3200400" cy="354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3716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4208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4512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5004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924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152800"/>
            <a:ext cx="914400" cy="1428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249840 h 1428480"/>
              <a:gd name="textAreaBottom" fmla="*/ 1035720 h 14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249552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335268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5004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4208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46640" y="335268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3581280"/>
            <a:ext cx="1015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4960" y="3352680"/>
            <a:ext cx="20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352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753000"/>
            <a:ext cx="609840" cy="514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51560" y="3581280"/>
            <a:ext cx="25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ced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438280"/>
            <a:ext cx="2235240" cy="514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50040" y="3638520"/>
            <a:ext cx="2260440" cy="743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455292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46640" y="455292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4552920"/>
            <a:ext cx="304560" cy="11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42080" y="4552920"/>
            <a:ext cx="304560" cy="11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552920"/>
            <a:ext cx="304920" cy="11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37160" y="4781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0192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92440" y="1924200"/>
            <a:ext cx="4064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1924200"/>
            <a:ext cx="711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6840" y="1924200"/>
            <a:ext cx="1930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6480" y="4952880"/>
            <a:ext cx="1930320" cy="514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0" y="5010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89280" y="2124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30120"/>
            <a:ext cx="71625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44..160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        join(104..160,320..390,504..579)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codon_start=1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tein_id="CAA44171.1"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b_xref="GI:16354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b_xref="SWISS-PROT:P31169"  I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translation=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MSETNKNAFQAGQAAGKAERRRAMFCWTRPRMLLLQLELPRNRA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KSISDAAVGGVNFVKDKTGLNK"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        161..319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320..390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2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        391..503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2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504..&gt;579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3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52280"/>
            <a:ext cx="57913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LOCUS       ATKIN2        880 bp    DNA             PLN       23-JUL-19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        join(104..160,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32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50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ST Accession 3450035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1     78    160 (  83 n);  cDNA      1     80 (  80 n); score: 0.86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1    161    321 ( 161 n);  Pd: 0.976 (s: 0.90), Pa: 0.972 (s: 1.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2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90 (  69 n);  cDNA     81    149 (  69 n); score: 0.97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2    391    504 ( 114 n);  Pd: 0.999 (s: 0.96), Pa: 0.964 (s: 0.9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3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505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785 ( 281 n);  cDNA    150    429 ( 280 n); score: 0.99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lignment (genomic DNA sequence = upper line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CAGGCCGC TGGCAAAGCT GAGGTACTCT TTCTCTCTTA GAACAGAGTA CTGATAGATT      1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|||| |||| ||||| 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CAGGCCGC TGGCCAAGCT GAG....... .......... .......... ..........       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TAGGAGAAG AGCAATGTTC TGCTGGACAA GGCCAAGGAT GCTGCTGCTG CAGCTGGAGC      37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 |||||||||| |||||||||| |||||||||| |||||||||| ||||||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GAGAAG AGCAATGTTC TGCTGGACAA GGCCAAGGAT GCTGCTGCTG CAGCTGGAGN      13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GCGCAA CAGGTAAACG ATCTATACAC ACATTATGAC ATTTATGTAA AGAATGAAAA      4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 ||| 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GCNCAA CAG....... .......... .......... .......... ..........      14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TATAGGCG GGAAAGAGTA TATCGGATGC GGCAGTGGGA GGTGTTAACT TCGTGAAGGA      55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 |||||||||| |||||||||| |||||||||| |||||||||  |||||||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GCG GGAAAGAGTA TATCGGATGC GGCAGTGGGA GGTGTTAAC- TCGTGAAGGA      2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correct (gi|399298|sp|P31169|KIN2_ARATH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 KSNVLLDKAK DAAAAAGASA QQ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A AVGGVNFVKD KTGL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false (gi|16354|emb|CAA4417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R RRAMFCWTRP RMLLLQLELP RNR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 AAVGGVNFVK DKTGL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1143000"/>
            <a:ext cx="23623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an erroneous GenBank annotation.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Bank CDS gives incorrect assignment of both acceptor sites (319 should be 321, 503 should be 504), as pointed out by Korning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al. (1996)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pliced alignment with an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bidopsi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by the GeneSeqer program [Usuka &amp; Brendel, 2000] proves the correct assignment (identities between the genomic DNA, upper lines, and EST, lower lines, are indicated by |; positions of the rightmost residues in each sequence block are given on the right; introns are indicated by …; for brevity, some sequence segments are replaced by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//////)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The erroneous intron assignment led to an incorrect protein sequence prediction (Pfalse).  Both the incorrect sequence and the correct protein sequence (Pcorrect) persist in the NCBI non-redundant protein database under different accessions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1680" y="15876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US   ATKIN2 880 bp  DNA PLN 23-JUL-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join(104..16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2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0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003400"/>
            <a:ext cx="8382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false (gi|16354|emb|CAA4417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 RRAMFCWTRP RMLLLQLELP RN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 AAVGGVNFVK DKTGL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42240" y="132408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4880" y="3533760"/>
            <a:ext cx="41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RECT AN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5160" y="419112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join(104..16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0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42240" y="483084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5119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correct (gi|399298|sp|P31169|KIN2_AR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 KSNVLLDKAK DAAAAAGASA QQ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A AVGGVNFVKD KTGL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55079"/>
          <a:stretch/>
        </p:blipFill>
        <p:spPr>
          <a:xfrm>
            <a:off x="2227320" y="249120"/>
            <a:ext cx="6535800" cy="636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60520" y="68580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no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6858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1219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914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384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438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211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292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66294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905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4876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685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2952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2438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327672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6240" y="16765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-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" y="259092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GR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6240" y="46483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les of the PlantGDB Annotation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sually 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both curators &amp; communit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grate automated &amp; non-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namic &amp;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community “ owned &amp; operated 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Structure Annotatio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ntergenic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notated genes actually correspond to a single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ntronic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nnotated gene structure actually contains two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negative gene predi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an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ly incorrect gene annotation, missing annotation of alternative tran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1:35:17Z</dcterms:created>
  <dc:creator>Shannon </dc:creator>
  <dc:description/>
  <dc:language>en-US</dc:language>
  <cp:lastModifiedBy>Shannon </cp:lastModifiedBy>
  <dcterms:modified xsi:type="dcterms:W3CDTF">2004-04-26T17:18:36Z</dcterms:modified>
  <cp:revision>8</cp:revision>
  <dc:subject/>
  <dc:title>Slide 1</dc:title>
</cp:coreProperties>
</file>